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2E1-EF95-4F60-B501-6DAE3FCE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289-A7CF-45D7-A967-1A14C8D8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C2B94-DC8D-4F58-B4E8-04C6B73B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6AE5E-B369-48F4-BB37-FA0634AA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10872-4BC0-40C9-99BA-6DC93CE6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A182D-8F0A-4A28-8BC0-E4C7F36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2A89E-FFC1-4E79-BCBD-BAE969EF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3D822-DF30-40C7-8861-A5124C9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3376B-B509-4BF7-8343-422EE866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BDB48-D001-4811-8933-DF496E4D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4FA46-04D5-4E8A-9929-84642FAC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6CD7E-AC14-4BD2-96C1-939110B9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EA8-351C-49E5-92EB-D80B11DF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C3C45-A64B-4F80-85FE-8CCFFA0D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F3483-393A-4888-B89E-D07B8D0E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A28D3-38B4-4A4E-9398-C3778681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6E28A-504C-4A67-A21B-DA6FBDD2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A3F1F-EFFD-4923-BBD0-C21F2EE8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38F35-F502-4737-AED4-976BAD89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DBAC4-048F-4F98-9BFB-1BF9444D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36176-15A9-4879-81AB-F5A12354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3569D-AB82-4588-A23A-221E1C6E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9116F-880C-4A00-BCAF-F2CAE689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D7D-04EC-4FBD-9092-D913D82A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6E813-6622-49E4-B18A-D98D3562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61D72-34C1-4407-9DFA-8F985E37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F2B84-3A1A-42D8-A48C-C3B203DC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3B721-C85F-4957-A0BB-F7F6FD84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B659F-FBD4-4339-B40B-FC7FC73A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4A327-38E0-480B-BC16-50B42592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47676-9269-4760-BD24-6C8A1488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3A5B1-45AE-44EB-AE1F-E85441C1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1F195-F29B-4322-8AFA-96FCF263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DF558-89D9-4596-9060-80EE7EC3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0E94-1E9A-49E5-985E-C416741E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69DB9-13A8-4C6A-9007-AC21805C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EBD06-5E6D-45E7-8E4E-0A895ED0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B4EFE-B1B8-4C14-8D21-A8B23F4D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61F46-53EE-4A01-BA49-DF9346B8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300BA-596D-47DA-8826-C07A28D3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1C35E-BD64-4811-B1BF-766C023B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D809F-8894-4514-A423-E9F69D34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489B8-5768-4587-B126-F0959D8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081E1-7F08-4BE5-811E-7F19ED94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F51EF-9369-4B22-87AE-848C78C4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B849-9210-4B2F-BBEF-BFC9FD71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35AF6-E2D9-494E-8824-39C4F1B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3669A-C9F0-463B-B236-14ADC27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41850-F528-45E6-B88E-EFAF07DE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925FD-1DEF-4713-BD29-55999B01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027F5-208D-4DC8-BFA1-BC67E4B5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18261-12F1-47B9-992D-67EADD72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C6FDD-6636-413A-AB87-67F2E96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33D53-2515-4544-BE30-2D0EA764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A9E7E-0ECA-47C8-A313-EA7B08FE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4EAED-E98D-4842-9E3F-94444ACF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6422-8F85-4760-BE73-FDA65B45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E5601-AB38-4B3B-8502-B47BF81E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83F32-F3A4-4DDE-BEFE-B7113114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4BBA4-5B7B-4418-970C-59485FDF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3B9F1-3ED1-4329-9337-73F42786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5A94D-09A3-4E1F-9E18-B2392FC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7CC0E-3F50-4898-8617-445C0174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F6240-6165-46A8-82E6-42765C82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C5537-04FD-413E-91A3-95AC4AB4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CF785-E6DA-469F-9029-35A34E70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E2CC9-5417-420E-B6E4-42A1F415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51CC-9768-4B83-AD09-3CBFE45A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10255-ABCF-47F1-A6D2-CE8B4F25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0A4F9-AADD-47A7-A398-0DD65647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F0FD6-2F3E-44CA-B431-7FE9CDCD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412E2-23F4-4B4E-A754-3386101A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4FB9C-AA01-434E-B460-D07D31C6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2D1C0-D919-4A72-98D0-C57DEEB4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CC9D7-7465-469F-9DA7-63488A44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1730B-89B4-414D-90B6-9599B698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03483-4A60-43CF-9C27-733DFF46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E9448-9A64-47D0-B01C-20F1DCE4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C95A-73EE-4D01-9CDC-C4C41F70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F170E-3AAA-4C80-9B9D-60BE6643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5B573-7B4C-414D-A3B3-FCF37774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0CCE9-9D9A-4861-98AB-2059E373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F9A53-B058-425A-8220-5E5691D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5D669-4184-42B2-BAD7-F04A9876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2F0AD-8DA2-488C-BE3D-6F202669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C23BD-E485-4E44-B4A6-177F5EE5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D7C8B-1CBE-4887-BCEC-D594D85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CD80E-73DA-4035-820E-BF1420A7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F0613-308D-4DAB-8931-C9E107F9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DC62-9B1C-420E-8DD2-9013CB81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EF93B-8637-4D0C-A0F9-D008AD74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D35C7-7DB3-4912-A9A7-878535EA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6CDCF-8F1A-4D60-8533-3B3F33DD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C405A-B9E5-4D63-A268-54A5D02E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76B25-1870-4EFC-991E-BE0AB07D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74517-9F6F-418B-89C2-9D38F560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DD2C6-634A-49E2-8040-80F52287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3CD2C-2B6D-4BC9-B30B-5CB4F1F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E494A-E1E0-40FF-A86F-5E720A4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887B4-1E42-4908-B399-8AF2A4D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B590-57DC-447F-B167-02C8E72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51551-8BCD-4FC5-BD42-410B0F8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A3396-49FE-4C0F-81E0-8C32C3D6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60253-CE27-464C-B206-AA69956F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9BBDB-3F9D-4458-AD52-654A3C27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1DAE53-D17A-42CB-973A-39AD9D9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44583-DEFF-4644-954A-07B86E6D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14BF5-FF6F-4E1A-86A7-EF664CFC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37265-D5F5-4AFD-8C04-AE15A8CB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76241-5D87-4567-BC36-DB7845CC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08FFB-9AAF-4031-A4CA-5740D0E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8CD-E2A9-4B47-B659-D9414648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C8D8-9385-42B2-8C28-F66E542B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684D7F-C1D4-4F54-A85C-3EB6C076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C89D7-7627-4457-A7D8-3681C77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591B4-B24B-46DE-AD3F-9CA3E31E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9A202-4AE9-4DB9-B8F6-055E5062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12AF4-4511-4A76-800A-EC999DEA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34518-C0F5-40F9-912B-DEBA0667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158FA-90FB-4ABA-98A7-49001EEE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A51B0-7EF4-4269-A132-5A455E6D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4075D-4E91-41EE-823D-01537707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1EC4E3-834A-4FF7-9442-FBA22365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6C1A-7AE3-49F5-A5E7-D1C287CC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E45E9-A0A4-4C20-9081-75487FDD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AF9D4-A120-4E76-9996-74366E5D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6818F0-62F2-4D39-B8E8-B60793CF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98EA36-1D3E-4776-BE23-27BEAC99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1A7C5-7B50-4261-9141-17A04D4C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286B53-BD8C-4AF5-B38F-0BBA06A3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7C055-DEA4-4667-8D9B-CF34ADC2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761C3-895F-4B6D-9737-1F48AB66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48B14-8437-4A2A-BF8A-39431D44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39761-81F1-4D65-8981-857D2C0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E962-9B76-4E80-BBB5-600218C3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AC8C4-86B1-461B-8B58-CAA23FBE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FBA891-2879-4C80-B66F-4F89DD6F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61953-F2BD-4C87-B506-A5A41EC1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0DA8FC-8862-42A7-A380-A0DC87B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C5139-1752-4F7C-9FAB-FC99994D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565E1-09D7-4FD2-9876-F153FA41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D0F20-5D46-4ED1-A691-84F7E15C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2B60F3-02E4-4AF7-B917-0B1EB0EF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2D77E-442A-4926-8498-EE0A672B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2C5C7-14BD-4414-BCB6-7E8973D6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0BB-0D1B-4BFE-B6AB-2B4406B3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DCC39-4E93-4B4B-BDBB-4C244467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FEC0B-452B-4CF2-869D-094DCE80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02F9E0-735A-4FAA-998A-E6A4E93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C2364-EC4A-41FD-A035-2CB218E8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87420-21C5-45BC-B166-E7B746B2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5AB83-AFF9-4B69-8AE3-E3F38BB7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1874F-24D3-4DBA-82CD-8FE2518A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23DB6B-5A0B-44A8-B2FA-5A4B0BE4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CD8DA-7DB0-4A91-BADA-1A3C0B16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3A73B-9BED-4846-BE82-671E73D4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BACF-5447-4032-A214-BD495172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AA5B8-9CF0-4C69-AFB1-8AF63705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E0D7A-79E2-4592-AA1C-1593160B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AAD07-DC29-43EA-92B5-FE410823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F11CC4-575F-4D09-8433-9127A768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AA2E8-7B2E-447D-87E8-A8F2F021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ACD3D2-DB3B-4D0C-A672-109087B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F9C784-4A4A-48FA-8682-14BC4F34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BF05B9-3461-4B00-8810-B386408D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DEAAE-4C33-47E3-8C16-C0AB118C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1426E5-D777-4192-BBCF-3F8A5A0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D4C3-1047-4F80-8C0E-292DAA24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A37998-C006-426A-BF26-B09ACE0F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B2CAB-8173-4791-881A-932B504B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762C8-43ED-49C9-B866-874C0A69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1D59-6D17-46AC-8178-65051202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D557-47B8-4E03-B084-6272BD2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F35E-2E37-442F-90DE-61BBB499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D48B-984C-42FD-9A49-ED85888A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E26-962E-4765-97CE-4E6CB250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EDF8B-423E-4CA2-BAF1-EF409201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37D0-C003-4312-B4B9-DE139D44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C5CB-9F98-4AAA-B2D3-00425AF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C3B2-CE13-43E8-87B9-5E145430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073D-FD29-42CE-B622-D702D649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460F-8FE2-47E5-82D8-71BFC24D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9095-F76D-4327-9D64-4C5F2D95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53F22-95D3-4968-A0A5-7F84D7C0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53C07-6937-485B-9098-B605729B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B980-87A1-42E4-ABD7-D8E20CB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A6E-2A79-43A6-A4B6-5B3650E4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0F45-DF3A-46E2-8624-6B6F184A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E071-3A12-48E6-B8C6-E79C829D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EABA-C23F-43D9-99B9-CD65ED64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DF11-E39A-4C8F-B184-E8175F7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568D-47D7-491C-BDD0-5E48435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A2E21-E5D6-4E33-BAB0-C2165AA6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196E-F9AA-46EF-A858-7DC318F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9D82-BBD0-41EA-98E8-CD2742C8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78636-42CB-4EEF-BFF9-996D983C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E3F2-52EC-4400-B560-2690AC26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517-1BCE-4D8C-96CC-50A9DF75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8338-BD3F-454C-85A8-6BB00C1A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3D9B-FBD5-452E-9D41-81A2BB18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D75FC-459D-4259-B70B-0EB495FC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3FC8E-FCF5-486E-9840-68761E9D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79DF2-CF90-4B02-B84B-5BF60AD6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441C8-409B-4C0D-BB40-40BD08A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C7D50-7B73-4287-9DD8-A9AF766E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B9F3-6EB1-46D9-8CA1-4D632CB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6DAA-ABB0-487B-A50B-1E304E6D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6CBD7-CA66-46E3-B750-96DC9C7B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106-EC1A-4B9B-B7BE-4F2C7AD7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96DC-0352-4AB2-BDD4-C72486AF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ACD5E-0D88-4311-9437-F47B59A0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08A3-8BF4-4E5E-A70B-B3499B46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287D4-0807-4842-8790-485CC1D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6C27-38BC-4A63-8CA8-C0999B36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295A0-1004-4183-808C-580B17CC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F1F19-E275-4933-93ED-650882A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361D6-8881-4315-AA8D-B2E8EAF2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7ED7-7712-4A2A-B99E-C0707989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8819F-F255-4E9E-8A2A-F9CC30DA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C2B-3DCC-4FDD-AF5E-E3B77D52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2E3B3-D8B9-4593-9E3F-F30CB037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0C49-2AE0-4F64-8FAD-8B1BA534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E6FF-CA04-4493-966B-CB1146C2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E749-93C4-4144-BF0E-7388B00D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3C089-A59C-4C0D-9BC3-BE8908E4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DB40C-6583-4389-8874-61457F38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F5C1C-0828-446D-8B2B-A783B350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4487-6C1F-4059-9C7D-2B98B490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70A5-0F01-45D0-A34E-BB5817CB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746E-293C-4698-910B-48D4A48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6D3-C7F4-48AA-9B4F-73FDC56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93510-02D1-4BB2-96D0-89167B1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72FF3-D4F6-4D8D-988F-37A84545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F3FEF-BF5C-476A-BE5E-883FAC2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51A16-02D5-47CF-8ACD-EAC0102E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178A2-E106-4770-AD2B-6ADD5C49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EE73F-9764-4EE7-9CA4-070C5CC6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2F5E-40C1-4C11-905B-A2236FF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8DD19-3D95-41CC-AFE7-70A92D03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B8526-C87F-4650-9BCD-F4832A3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79DCE-4520-44C2-8EF7-EE5D8152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D9A-879D-4531-86B1-FD624AF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ECA7B-65F1-4953-9AF2-52BA9215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6E632-82E6-4E63-B78F-4C5DF8D4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64163-B479-4DEF-896B-FD650D47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F9ED1-EE66-49D9-A642-142C2D60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FD67-C710-4406-B42E-1946B7FC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7B5EF-E95E-4987-80CA-B079C4BF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3A18-86A5-4190-9B30-1438698A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64DE9-8733-49B1-A5A3-ACF12A07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96B12-5AF4-4AD4-998E-032C663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82529-8084-4D0F-9D71-4CFAA0BF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A021-AF57-47B9-87EC-3C3837AC65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A849-7D7D-44F6-8EF7-7B90C754CB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1A53-7F20-4036-BB22-D170F39A54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EB6-ABAC-4B88-9FCB-E1C222EEC9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73A5-D9F2-43DB-8DCD-45F4C408AB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D99C-79B4-4AEE-90D2-B0FF349614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2B12-F407-42D8-BC8A-F5FEAB3343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A02-BB36-4330-85A9-02E62A5B70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6384-B412-4D92-81EB-51CC1DEB7F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3CF-5C8D-46F6-868F-FDC4065D1A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80AE-7F96-4CEE-9F82-9EB9B91CAE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03B6-E529-4FEA-8610-408C55C2F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4C33-5CCE-4AAF-A67B-9519DC29CF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D594-2CEF-48D5-AE2B-022FC76783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B9DE-86F3-47C2-8F25-05259C3BE9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45D-59BE-45B5-9EEB-BBE5EA3E2E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EE77-993E-42E3-962F-48608C3C8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625D-EBBC-4505-B4E5-BEA32B84BA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E4B1-90D4-48FF-BF89-54F46CD1BB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A136-32E5-40DD-B131-B11407223F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2C96-CD80-4CB0-8DD6-4360EEB003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10CB-9045-4054-B53B-675698266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BCA2-D633-412F-9A30-1FBFC99DD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7E17-D884-481D-B23E-196F259FA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58CC-273B-4222-A91D-DFCEA8404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1ECC-DFEB-4239-812C-F6DCE94D1D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669-9218-401F-8B88-9FED0F24A8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098D-8CD8-4A86-8315-CF6245197B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C7B-F36A-4AEB-ACF2-4F55805EC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76FD-7E2E-4FB2-95A4-BE55FCA4E9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2E3-8F77-4155-B814-6BE222EACC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4029-9722-4645-B8D1-61BD0FDA6E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825B-2C29-435E-97D5-B7827A1753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1CF8-DAA4-4DF6-BA1F-494B1D993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F8A4-3997-4E02-8C81-37B45CB7A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4158-96D6-4AC7-B763-E574B7D9CC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5BA5-A974-4A51-9F45-40B7250E6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B9C-6CC4-4F4C-B863-0240C3916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34B8-94E2-4F43-A6C3-C553A5B33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DA1B-2136-4FBE-897F-C6A5F1D90F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47720" y="3000240"/>
            <a:ext cx="58485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图片 69633" descr=""/>
          <p:cNvPicPr/>
          <p:nvPr/>
        </p:nvPicPr>
        <p:blipFill>
          <a:blip r:embed="rId1"/>
          <a:stretch/>
        </p:blipFill>
        <p:spPr>
          <a:xfrm>
            <a:off x="281160" y="831960"/>
            <a:ext cx="8581680" cy="59817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2"/>
          <a:stretch/>
        </p:blipFill>
        <p:spPr>
          <a:xfrm>
            <a:off x="826920" y="5157720"/>
            <a:ext cx="4465800" cy="493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3"/>
          <a:stretch/>
        </p:blipFill>
        <p:spPr>
          <a:xfrm>
            <a:off x="755640" y="5848200"/>
            <a:ext cx="583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681120"/>
            <a:ext cx="8610480" cy="5495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635280" y="299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236000" y="299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916360" y="5084640"/>
            <a:ext cx="201600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234040" y="5676840"/>
            <a:ext cx="158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557280" y="789120"/>
            <a:ext cx="8029440" cy="54482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7451640" y="836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176364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012000" y="2060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6300720" y="2637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3492360" y="32274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8"/>
          <a:stretch/>
        </p:blipFill>
        <p:spPr>
          <a:xfrm>
            <a:off x="4932360" y="4437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9"/>
          <a:stretch/>
        </p:blipFill>
        <p:spPr>
          <a:xfrm>
            <a:off x="2050920" y="50846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0"/>
          <a:stretch/>
        </p:blipFill>
        <p:spPr>
          <a:xfrm>
            <a:off x="3924360" y="50846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1"/>
          <a:stretch/>
        </p:blipFill>
        <p:spPr>
          <a:xfrm>
            <a:off x="5940360" y="50846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2"/>
          <a:stretch/>
        </p:blipFill>
        <p:spPr>
          <a:xfrm>
            <a:off x="1692360" y="58053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3"/>
          <a:stretch/>
        </p:blipFill>
        <p:spPr>
          <a:xfrm>
            <a:off x="3708360" y="573408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614520" y="2828880"/>
            <a:ext cx="7914960" cy="12002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284328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6877080" y="3500280"/>
            <a:ext cx="9349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271440" y="1038240"/>
            <a:ext cx="8601120" cy="4781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6516720" y="1773360"/>
            <a:ext cx="172728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093080" y="23637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3635280" y="299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4572000" y="3716280"/>
            <a:ext cx="1079640" cy="865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5148360" y="4653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1979640" y="5300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324000" y="74520"/>
            <a:ext cx="8562960" cy="436248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6325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7962840" cy="2276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3313080" cy="2519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900000" y="4295880"/>
            <a:ext cx="3959280" cy="71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5364000" y="2190600"/>
            <a:ext cx="3313440" cy="2230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971640" y="4941720"/>
            <a:ext cx="3959280" cy="71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900000" y="5516640"/>
            <a:ext cx="3959280" cy="71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8"/>
          <a:stretch/>
        </p:blipFill>
        <p:spPr>
          <a:xfrm>
            <a:off x="826920" y="6111720"/>
            <a:ext cx="3959280" cy="71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9"/>
          <a:stretch/>
        </p:blipFill>
        <p:spPr>
          <a:xfrm>
            <a:off x="5113440" y="4440240"/>
            <a:ext cx="3959280" cy="71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0"/>
          <a:stretch/>
        </p:blipFill>
        <p:spPr>
          <a:xfrm>
            <a:off x="5184720" y="5086440"/>
            <a:ext cx="3959280" cy="71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1"/>
          <a:stretch/>
        </p:blipFill>
        <p:spPr>
          <a:xfrm>
            <a:off x="5113440" y="5661000"/>
            <a:ext cx="3959280" cy="71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2"/>
          <a:stretch/>
        </p:blipFill>
        <p:spPr>
          <a:xfrm>
            <a:off x="5184720" y="6126120"/>
            <a:ext cx="39592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5300" descr=""/>
          <p:cNvPicPr/>
          <p:nvPr/>
        </p:nvPicPr>
        <p:blipFill>
          <a:blip r:embed="rId1"/>
          <a:stretch/>
        </p:blipFill>
        <p:spPr>
          <a:xfrm>
            <a:off x="295200" y="981000"/>
            <a:ext cx="8553600" cy="4896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7667640" y="2565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7667640" y="3213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7596360" y="4653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596360" y="531504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4276" descr=""/>
          <p:cNvPicPr/>
          <p:nvPr/>
        </p:nvPicPr>
        <p:blipFill>
          <a:blip r:embed="rId1"/>
          <a:stretch/>
        </p:blipFill>
        <p:spPr>
          <a:xfrm>
            <a:off x="247680" y="687240"/>
            <a:ext cx="8648640" cy="59817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826920" y="3641760"/>
            <a:ext cx="8066160" cy="493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8066160" cy="493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826920" y="5084640"/>
            <a:ext cx="5040360" cy="865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468360" y="6180120"/>
            <a:ext cx="80661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2231" descr=""/>
          <p:cNvPicPr/>
          <p:nvPr/>
        </p:nvPicPr>
        <p:blipFill>
          <a:blip r:embed="rId1"/>
          <a:stretch/>
        </p:blipFill>
        <p:spPr>
          <a:xfrm>
            <a:off x="471600" y="1209600"/>
            <a:ext cx="8200800" cy="44388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5637240" y="2276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7164360" y="23209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359244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5551560" y="33274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7480440" y="33703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5119560" y="4427640"/>
            <a:ext cx="503280" cy="4316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5838840" y="4394160"/>
            <a:ext cx="503280" cy="4320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6948360" y="4379760"/>
            <a:ext cx="503280" cy="4320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8028000" y="4394160"/>
            <a:ext cx="503280" cy="432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1042920" y="5229360"/>
            <a:ext cx="40338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7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